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E419-40BA-4359-8342-0C8C80E18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8897-C129-461A-AEA8-5DC8DA83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C992-D1A3-4153-9E52-A431461C0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00E6-BF43-4DAD-BC57-2D8897679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40CA-DDAF-4CE4-92B0-9E85A4A26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ADF2-3AD1-400F-8B4B-D22199F9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D742-E893-46F1-A954-F58FA4A5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D74E-209C-49B0-8575-DDAA099B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8204-0B4E-4446-901C-7951A9D5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F9E6-594F-42B7-9F7B-2F42AC48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9732-47F7-47A6-8F46-56B6008C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86CA-88B7-47B1-BFBC-99EB72A5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9AEAC-3C03-4B84-8052-18EFC094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552F-3466-4CC3-8B0C-DBE3A87E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DB349-73D7-4A66-BA1D-5B7AE9BC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8AFD-9B58-4C2B-B1B3-4CFE058D7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BAEC-B9AC-49CE-A2C1-FCCD3D37B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6ACE-9068-4592-8079-70B44FFD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BFD2-2AAA-4C80-ACAD-8ED100ED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E4F4-6B5A-490E-A9E5-B8AB08E1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22DE-7B86-44B9-94C9-AFB7A9ED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E292-2359-4B91-868D-E06000F2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F2A7-BEA9-4DD3-8BF7-42D36E0D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F9D6-5429-4C92-AA67-622455C6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E9D8-552A-4D9B-8419-384709CEB3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E8A5-3F68-4BCA-84E2-B92FE4D0EC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1353960"/>
            <a:ext cx="746748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ffff"/>
                </a:solidFill>
                <a:latin typeface="Anime Ace"/>
              </a:rPr>
              <a:t>Cellular Respiration</a:t>
            </a:r>
            <a:endParaRPr b="0" lang="en-US" sz="6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4343400"/>
            <a:ext cx="449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nime Ace"/>
              </a:rPr>
              <a:t>Pages 220 - 23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ffff"/>
                </a:solidFill>
                <a:latin typeface="Anime Ace"/>
                <a:ea typeface="Times New Roman"/>
              </a:rPr>
              <a:t>Cellular Respiration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2438280"/>
            <a:ext cx="3200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ycolysis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5257800"/>
            <a:ext cx="3886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Times New Roman"/>
              </a:rPr>
              <a:t>Fermentation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00600" y="4800600"/>
            <a:ext cx="4343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erobic (Oxidative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spi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361960" y="3276720"/>
            <a:ext cx="4343760" cy="1904760"/>
            <a:chOff x="2361960" y="3276720"/>
            <a:chExt cx="4343760" cy="1904760"/>
          </a:xfrm>
        </p:grpSpPr>
        <p:sp>
          <p:nvSpPr>
            <p:cNvPr id="145" name=""/>
            <p:cNvSpPr/>
            <p:nvPr/>
          </p:nvSpPr>
          <p:spPr>
            <a:xfrm flipH="1">
              <a:off x="2361960" y="3276720"/>
              <a:ext cx="1904760" cy="1904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267080" y="3276720"/>
              <a:ext cx="2438640" cy="16002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38080" y="3276720"/>
            <a:ext cx="22860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naerobi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(without O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3124080"/>
            <a:ext cx="25146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erobi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(with O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2438280"/>
            <a:ext cx="327672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5181480"/>
            <a:ext cx="419076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76640" y="4876920"/>
            <a:ext cx="4038840" cy="1523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514600" y="2057400"/>
            <a:ext cx="4038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Times New Roman"/>
              </a:rPr>
              <a:t>Fermentation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4343400"/>
            <a:ext cx="28195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Lactic Aci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Fermenta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91320" y="4343400"/>
            <a:ext cx="28954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Alcohol &amp; CO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Fermenta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666520" y="2819520"/>
            <a:ext cx="4115160" cy="1447560"/>
            <a:chOff x="2666520" y="2819520"/>
            <a:chExt cx="4115160" cy="1447560"/>
          </a:xfrm>
        </p:grpSpPr>
        <p:sp>
          <p:nvSpPr>
            <p:cNvPr id="156" name=""/>
            <p:cNvSpPr/>
            <p:nvPr/>
          </p:nvSpPr>
          <p:spPr>
            <a:xfrm flipH="1">
              <a:off x="2666520" y="2819520"/>
              <a:ext cx="1676520" cy="1447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43400" y="2819520"/>
              <a:ext cx="2438280" cy="1371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219320" y="5715000"/>
            <a:ext cx="2361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x: Muscl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715000" y="5791320"/>
            <a:ext cx="2666880" cy="1068120"/>
            <a:chOff x="5715000" y="5791320"/>
            <a:chExt cx="2666880" cy="1068120"/>
          </a:xfrm>
        </p:grpSpPr>
        <p:sp>
          <p:nvSpPr>
            <p:cNvPr id="160" name=""/>
            <p:cNvSpPr/>
            <p:nvPr/>
          </p:nvSpPr>
          <p:spPr>
            <a:xfrm>
              <a:off x="5715000" y="5791320"/>
              <a:ext cx="2666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Ex: Bacteria  &amp;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400800" y="6308640"/>
              <a:ext cx="1676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Yeast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2514600" y="2057400"/>
            <a:ext cx="396252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4267080"/>
            <a:ext cx="3276720" cy="1447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15000" y="4191120"/>
            <a:ext cx="3124080" cy="1523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nime Ace"/>
              </a:rPr>
              <a:t>Energy For Anaerobic Respiration: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2057400"/>
            <a:ext cx="3429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Glycolysis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429000"/>
            <a:ext cx="3657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Fermentation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4952880"/>
            <a:ext cx="19047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Total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1981080"/>
            <a:ext cx="10666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48520" y="3429000"/>
            <a:ext cx="990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248520" y="4876920"/>
            <a:ext cx="838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nime Ace"/>
              </a:rPr>
              <a:t>Energy For Aerobic Respiration: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2057400"/>
            <a:ext cx="3429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Glycolysis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3429000"/>
            <a:ext cx="3200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Aerobic Respiration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5486400"/>
            <a:ext cx="1905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Total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00800" y="2057400"/>
            <a:ext cx="10666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3657600"/>
            <a:ext cx="10666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34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248520" y="5410080"/>
            <a:ext cx="10666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36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 rot="9361800">
            <a:off x="5409360" y="837720"/>
            <a:ext cx="763560" cy="304920"/>
          </a:xfrm>
          <a:prstGeom prst="rightArrow">
            <a:avLst>
              <a:gd name="adj1" fmla="val 50000"/>
              <a:gd name="adj2" fmla="val 62603"/>
            </a:avLst>
          </a:prstGeom>
          <a:solidFill>
            <a:srgbClr val="008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3809880" cy="1326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ss: Photosynthes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ganism: Pla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ce Occurs: Chloropla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2055000">
            <a:off x="5715000" y="1752480"/>
            <a:ext cx="1754280" cy="457200"/>
          </a:xfrm>
          <a:custGeom>
            <a:avLst/>
            <a:gdLst>
              <a:gd name="textAreaLeft" fmla="*/ 306720 w 1754280"/>
              <a:gd name="textAreaRight" fmla="*/ 1271880 w 175428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99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562720" y="2743200"/>
            <a:ext cx="2590560" cy="5101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lucose and 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7542000">
            <a:off x="6021000" y="3884040"/>
            <a:ext cx="1676160" cy="460440"/>
          </a:xfrm>
          <a:custGeom>
            <a:avLst/>
            <a:gdLst>
              <a:gd name="textAreaLeft" fmla="*/ 293040 w 1676160"/>
              <a:gd name="textAreaRight" fmla="*/ 1215360 w 1676160"/>
              <a:gd name="textAreaTop" fmla="*/ 61560 h 460440"/>
              <a:gd name="textAreaBottom" fmla="*/ 398880 h 460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8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114800" y="4191120"/>
            <a:ext cx="1981080" cy="685800"/>
          </a:xfrm>
          <a:prstGeom prst="ellipse">
            <a:avLst/>
          </a:prstGeom>
          <a:solidFill>
            <a:srgbClr val="cc99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91120" y="4267080"/>
            <a:ext cx="1752480" cy="542880"/>
          </a:xfrm>
          <a:custGeom>
            <a:avLst/>
            <a:gdLst/>
            <a:ahLst/>
            <a:rect l="l" t="t" r="r" b="b"/>
            <a:pathLst>
              <a:path w="1104" h="304">
                <a:moveTo>
                  <a:pt x="0" y="248"/>
                </a:moveTo>
                <a:cubicBezTo>
                  <a:pt x="60" y="124"/>
                  <a:pt x="120" y="0"/>
                  <a:pt x="144" y="8"/>
                </a:cubicBezTo>
                <a:cubicBezTo>
                  <a:pt x="168" y="16"/>
                  <a:pt x="120" y="296"/>
                  <a:pt x="144" y="296"/>
                </a:cubicBezTo>
                <a:cubicBezTo>
                  <a:pt x="168" y="296"/>
                  <a:pt x="264" y="8"/>
                  <a:pt x="288" y="8"/>
                </a:cubicBezTo>
                <a:cubicBezTo>
                  <a:pt x="312" y="8"/>
                  <a:pt x="264" y="296"/>
                  <a:pt x="288" y="296"/>
                </a:cubicBezTo>
                <a:cubicBezTo>
                  <a:pt x="312" y="296"/>
                  <a:pt x="408" y="8"/>
                  <a:pt x="432" y="8"/>
                </a:cubicBezTo>
                <a:cubicBezTo>
                  <a:pt x="456" y="8"/>
                  <a:pt x="416" y="296"/>
                  <a:pt x="432" y="296"/>
                </a:cubicBezTo>
                <a:cubicBezTo>
                  <a:pt x="448" y="296"/>
                  <a:pt x="504" y="8"/>
                  <a:pt x="528" y="8"/>
                </a:cubicBezTo>
                <a:cubicBezTo>
                  <a:pt x="552" y="8"/>
                  <a:pt x="552" y="296"/>
                  <a:pt x="576" y="296"/>
                </a:cubicBezTo>
                <a:cubicBezTo>
                  <a:pt x="600" y="296"/>
                  <a:pt x="648" y="8"/>
                  <a:pt x="672" y="8"/>
                </a:cubicBezTo>
                <a:cubicBezTo>
                  <a:pt x="696" y="8"/>
                  <a:pt x="696" y="288"/>
                  <a:pt x="720" y="296"/>
                </a:cubicBezTo>
                <a:cubicBezTo>
                  <a:pt x="744" y="304"/>
                  <a:pt x="800" y="56"/>
                  <a:pt x="816" y="56"/>
                </a:cubicBezTo>
                <a:cubicBezTo>
                  <a:pt x="832" y="56"/>
                  <a:pt x="792" y="296"/>
                  <a:pt x="816" y="296"/>
                </a:cubicBezTo>
                <a:cubicBezTo>
                  <a:pt x="840" y="296"/>
                  <a:pt x="936" y="64"/>
                  <a:pt x="960" y="56"/>
                </a:cubicBezTo>
                <a:cubicBezTo>
                  <a:pt x="984" y="48"/>
                  <a:pt x="944" y="240"/>
                  <a:pt x="960" y="248"/>
                </a:cubicBezTo>
                <a:cubicBezTo>
                  <a:pt x="976" y="256"/>
                  <a:pt x="1032" y="104"/>
                  <a:pt x="1056" y="104"/>
                </a:cubicBezTo>
                <a:cubicBezTo>
                  <a:pt x="1080" y="104"/>
                  <a:pt x="1092" y="176"/>
                  <a:pt x="1104" y="248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91120" y="5032440"/>
            <a:ext cx="4038480" cy="17899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ss: Respi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ganism: A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ce occurs: Mitochondria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ytoplas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3462200">
            <a:off x="2285640" y="4037760"/>
            <a:ext cx="1754280" cy="274680"/>
          </a:xfrm>
          <a:custGeom>
            <a:avLst/>
            <a:gdLst>
              <a:gd name="textAreaLeft" fmla="*/ 306720 w 1754280"/>
              <a:gd name="textAreaRight" fmla="*/ 1271880 w 1754280"/>
              <a:gd name="textAreaTop" fmla="*/ 36720 h 274680"/>
              <a:gd name="textAreaBottom" fmla="*/ 237960 h 274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8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19183200">
            <a:off x="2362320" y="1752480"/>
            <a:ext cx="1828800" cy="38124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8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281952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95280" y="4343400"/>
            <a:ext cx="99072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2743200"/>
            <a:ext cx="2286000" cy="6094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514600" y="4343400"/>
            <a:ext cx="457200" cy="763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BD08044_" descr=""/>
          <p:cNvPicPr/>
          <p:nvPr/>
        </p:nvPicPr>
        <p:blipFill>
          <a:blip r:embed="rId2"/>
          <a:stretch/>
        </p:blipFill>
        <p:spPr>
          <a:xfrm>
            <a:off x="4191120" y="609480"/>
            <a:ext cx="1600200" cy="18288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0" y="525780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5334120"/>
            <a:ext cx="396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Arial"/>
              </a:rPr>
              <a:t>Cycle of Energy in Lif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DD01339_" descr=""/>
          <p:cNvPicPr/>
          <p:nvPr/>
        </p:nvPicPr>
        <p:blipFill>
          <a:blip r:embed="rId3"/>
          <a:stretch/>
        </p:blipFill>
        <p:spPr>
          <a:xfrm>
            <a:off x="6400800" y="0"/>
            <a:ext cx="15192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ffff"/>
                </a:solidFill>
                <a:latin typeface="Anime Ace"/>
                <a:ea typeface="Times New Roman"/>
              </a:rPr>
              <a:t>Definition:</a:t>
            </a:r>
            <a:endParaRPr b="0" lang="en-US" sz="5000" spc="-1" strike="noStrike">
              <a:solidFill>
                <a:srgbClr val="ccffff"/>
              </a:solidFill>
              <a:latin typeface="Tahoma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85800" y="2209680"/>
            <a:ext cx="8229600" cy="1617840"/>
            <a:chOff x="685800" y="2209680"/>
            <a:chExt cx="8229600" cy="1617840"/>
          </a:xfrm>
        </p:grpSpPr>
        <p:sp>
          <p:nvSpPr>
            <p:cNvPr id="89" name=""/>
            <p:cNvSpPr/>
            <p:nvPr/>
          </p:nvSpPr>
          <p:spPr>
            <a:xfrm>
              <a:off x="762120" y="3047760"/>
              <a:ext cx="77724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(in food) into energy</a:t>
              </a:r>
              <a:endParaRPr b="0" lang="en-US" sz="4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5800" y="2209680"/>
              <a:ext cx="8229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Breaking down carbohydrates</a:t>
              </a:r>
              <a:endParaRPr b="0" lang="en-US" sz="4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ffff"/>
                </a:solidFill>
                <a:latin typeface="Anime Ace"/>
                <a:ea typeface="Times New Roman"/>
              </a:rPr>
              <a:t>Organisms that Respire:</a:t>
            </a:r>
            <a:endParaRPr b="0" lang="en-US" sz="5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  <a:ea typeface="Times New Roman"/>
              </a:rPr>
              <a:t>All living thing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ff"/>
                </a:solidFill>
                <a:latin typeface="Anime Ace"/>
                <a:ea typeface="Times New Roman"/>
              </a:rPr>
              <a:t>Location in Cells:</a:t>
            </a:r>
            <a:endParaRPr b="0" lang="en-US" sz="5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  <a:ea typeface="Times New Roman"/>
              </a:rPr>
              <a:t>Mitochondria (and cytoplasm)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Mitochondria" descr=""/>
          <p:cNvPicPr/>
          <p:nvPr/>
        </p:nvPicPr>
        <p:blipFill>
          <a:blip r:embed="rId2"/>
          <a:srcRect l="6345" t="11391" r="11112" b="13399"/>
          <a:stretch/>
        </p:blipFill>
        <p:spPr>
          <a:xfrm>
            <a:off x="2362320" y="3581280"/>
            <a:ext cx="39621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ffff"/>
                </a:solidFill>
                <a:latin typeface="Anime Ace"/>
                <a:ea typeface="Times New Roman"/>
              </a:rPr>
              <a:t>Glycolysis:</a:t>
            </a:r>
            <a:endParaRPr b="0" lang="en-US" sz="5000" spc="-1" strike="noStrike">
              <a:solidFill>
                <a:srgbClr val="ccffff"/>
              </a:solidFill>
              <a:latin typeface="Tahoma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85800" y="1981080"/>
            <a:ext cx="7696080" cy="3675600"/>
            <a:chOff x="685800" y="1981080"/>
            <a:chExt cx="7696080" cy="3675600"/>
          </a:xfrm>
        </p:grpSpPr>
        <p:sp>
          <p:nvSpPr>
            <p:cNvPr id="98" name=""/>
            <p:cNvSpPr/>
            <p:nvPr/>
          </p:nvSpPr>
          <p:spPr>
            <a:xfrm>
              <a:off x="685800" y="4876920"/>
              <a:ext cx="76201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</a:t>
              </a:r>
              <a:r>
                <a:rPr b="0" lang="en-US" sz="45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 </a:t>
              </a:r>
              <a:r>
                <a:rPr b="0" lang="en-US" sz="45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produces 2 ATP (energy)</a:t>
              </a:r>
              <a:endParaRPr b="0" lang="en-US" sz="4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85800" y="3886200"/>
              <a:ext cx="73152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</a:t>
              </a:r>
              <a:r>
                <a:rPr b="0" lang="en-US" sz="45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 </a:t>
              </a:r>
              <a:r>
                <a:rPr b="0" lang="en-US" sz="45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occurs in the cytoplasm</a:t>
              </a:r>
              <a:endParaRPr b="0" lang="en-US" sz="4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685800" y="1981080"/>
              <a:ext cx="7696080" cy="1694160"/>
              <a:chOff x="685800" y="1981080"/>
              <a:chExt cx="7696080" cy="1694160"/>
            </a:xfrm>
          </p:grpSpPr>
          <p:sp>
            <p:nvSpPr>
              <p:cNvPr id="101" name=""/>
              <p:cNvSpPr/>
              <p:nvPr/>
            </p:nvSpPr>
            <p:spPr>
              <a:xfrm>
                <a:off x="1219320" y="2895480"/>
                <a:ext cx="71625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500" spc="-1" strike="noStrike">
                    <a:solidFill>
                      <a:srgbClr val="ffffff"/>
                    </a:solidFill>
                    <a:latin typeface="Tahoma"/>
                    <a:ea typeface="Times New Roman"/>
                  </a:rPr>
                  <a:t>breakdown of glucose</a:t>
                </a:r>
                <a:endParaRPr b="0" lang="en-US" sz="4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85800" y="1981080"/>
                <a:ext cx="701028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</a:t>
                </a:r>
                <a:r>
                  <a:rPr b="0" lang="en-US" sz="3200" spc="-1" strike="noStrike">
                    <a:solidFill>
                      <a:srgbClr val="ffffff"/>
                    </a:solidFill>
                    <a:latin typeface="Tahoma"/>
                    <a:ea typeface="Times New Roman"/>
                  </a:rPr>
                  <a:t> </a:t>
                </a:r>
                <a:r>
                  <a:rPr b="0" lang="en-US" sz="4500" spc="-1" strike="noStrike">
                    <a:solidFill>
                      <a:srgbClr val="ffffff"/>
                    </a:solidFill>
                    <a:latin typeface="Tahoma"/>
                    <a:ea typeface="Times New Roman"/>
                  </a:rPr>
                  <a:t>the first step in the</a:t>
                </a:r>
                <a:endParaRPr b="0" lang="en-US" sz="4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2 types of cell respi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erobic (Using Oxyge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erobic (No Oxyge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ffff"/>
                </a:solidFill>
                <a:latin typeface="Anime Ace"/>
                <a:ea typeface="Times New Roman"/>
              </a:rPr>
              <a:t>Fermentation:</a:t>
            </a:r>
            <a:endParaRPr b="0" lang="en-US" sz="5000" spc="-1" strike="noStrike">
              <a:solidFill>
                <a:srgbClr val="ccffff"/>
              </a:solidFill>
              <a:latin typeface="Tahom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09480" y="1981080"/>
            <a:ext cx="8153640" cy="4208760"/>
            <a:chOff x="609480" y="1981080"/>
            <a:chExt cx="8153640" cy="4208760"/>
          </a:xfrm>
        </p:grpSpPr>
        <p:sp>
          <p:nvSpPr>
            <p:cNvPr id="107" name=""/>
            <p:cNvSpPr/>
            <p:nvPr/>
          </p:nvSpPr>
          <p:spPr>
            <a:xfrm>
              <a:off x="609480" y="5410080"/>
              <a:ext cx="8077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</a:t>
              </a:r>
              <a:r>
                <a:rPr b="0" lang="en-US" sz="32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 </a:t>
              </a:r>
              <a:r>
                <a:rPr b="0" lang="en-US" sz="45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produces 0 ATP (energy)</a:t>
              </a:r>
              <a:endParaRPr b="0" lang="en-US" sz="4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9480" y="4495680"/>
              <a:ext cx="74678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</a:t>
              </a:r>
              <a:r>
                <a:rPr b="0" lang="en-US" sz="32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 </a:t>
              </a:r>
              <a:r>
                <a:rPr b="0" lang="en-US" sz="45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occurs in the cytoplasm</a:t>
              </a:r>
              <a:endParaRPr b="0" lang="en-US" sz="4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609480" y="1981080"/>
              <a:ext cx="8153640" cy="3065760"/>
              <a:chOff x="609480" y="1981080"/>
              <a:chExt cx="8153640" cy="3065760"/>
            </a:xfrm>
          </p:grpSpPr>
          <p:sp>
            <p:nvSpPr>
              <p:cNvPr id="110" name=""/>
              <p:cNvSpPr/>
              <p:nvPr/>
            </p:nvSpPr>
            <p:spPr>
              <a:xfrm>
                <a:off x="1143000" y="3581280"/>
                <a:ext cx="624852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500" spc="-1" strike="noStrike">
                    <a:solidFill>
                      <a:srgbClr val="ffffff"/>
                    </a:solidFill>
                    <a:latin typeface="Tahoma"/>
                    <a:ea typeface="Times New Roman"/>
                  </a:rPr>
                  <a:t>when oxygen is absent)</a:t>
                </a:r>
                <a:endParaRPr b="0" lang="en-US" sz="4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143000" y="2743200"/>
                <a:ext cx="762012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500" spc="-1" strike="noStrike">
                    <a:solidFill>
                      <a:srgbClr val="ffffff"/>
                    </a:solidFill>
                    <a:latin typeface="Tahoma"/>
                    <a:ea typeface="Times New Roman"/>
                  </a:rPr>
                  <a:t>break down of glucose (only</a:t>
                </a:r>
                <a:endParaRPr b="0" lang="en-US" sz="4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9480" y="1981080"/>
                <a:ext cx="81536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</a:t>
                </a:r>
                <a:r>
                  <a:rPr b="0" lang="en-US" sz="3200" spc="-1" strike="noStrike">
                    <a:solidFill>
                      <a:srgbClr val="ffffff"/>
                    </a:solidFill>
                    <a:latin typeface="Tahoma"/>
                    <a:ea typeface="Times New Roman"/>
                  </a:rPr>
                  <a:t> </a:t>
                </a:r>
                <a:r>
                  <a:rPr b="0" lang="en-US" sz="4500" spc="-1" strike="noStrike">
                    <a:solidFill>
                      <a:srgbClr val="ffffff"/>
                    </a:solidFill>
                    <a:latin typeface="Tahoma"/>
                    <a:ea typeface="Times New Roman"/>
                  </a:rPr>
                  <a:t>the second step in the</a:t>
                </a:r>
                <a:endParaRPr b="0" lang="en-US" sz="4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ffff"/>
                </a:solidFill>
                <a:latin typeface="Anime Ace"/>
                <a:ea typeface="Times New Roman"/>
              </a:rPr>
              <a:t>Oxidative Respiration:</a:t>
            </a:r>
            <a:endParaRPr b="0" lang="en-US" sz="5000" spc="-1" strike="noStrike">
              <a:solidFill>
                <a:srgbClr val="ccffff"/>
              </a:solidFill>
              <a:latin typeface="Tahoma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685800" y="1981080"/>
            <a:ext cx="8077320" cy="4208760"/>
            <a:chOff x="685800" y="1981080"/>
            <a:chExt cx="8077320" cy="4208760"/>
          </a:xfrm>
        </p:grpSpPr>
        <p:sp>
          <p:nvSpPr>
            <p:cNvPr id="115" name=""/>
            <p:cNvSpPr/>
            <p:nvPr/>
          </p:nvSpPr>
          <p:spPr>
            <a:xfrm>
              <a:off x="685800" y="5410080"/>
              <a:ext cx="8077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</a:t>
              </a:r>
              <a:r>
                <a:rPr b="0" lang="en-US" sz="32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 </a:t>
              </a:r>
              <a:r>
                <a:rPr b="0" lang="en-US" sz="45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produces 34 ATP (energy)</a:t>
              </a:r>
              <a:endParaRPr b="0" lang="en-US" sz="4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5800" y="4495680"/>
              <a:ext cx="7620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</a:t>
              </a:r>
              <a:r>
                <a:rPr b="0" lang="en-US" sz="32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 </a:t>
              </a:r>
              <a:r>
                <a:rPr b="0" lang="en-US" sz="45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occurs in the mitochondria</a:t>
              </a:r>
              <a:endParaRPr b="0" lang="en-US" sz="4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85800" y="1981080"/>
              <a:ext cx="8001000" cy="3142080"/>
              <a:chOff x="685800" y="1981080"/>
              <a:chExt cx="8001000" cy="3142080"/>
            </a:xfrm>
          </p:grpSpPr>
          <p:sp>
            <p:nvSpPr>
              <p:cNvPr id="118" name=""/>
              <p:cNvSpPr/>
              <p:nvPr/>
            </p:nvSpPr>
            <p:spPr>
              <a:xfrm>
                <a:off x="1295280" y="3657600"/>
                <a:ext cx="647712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500" spc="-1" strike="noStrike">
                    <a:solidFill>
                      <a:srgbClr val="ffffff"/>
                    </a:solidFill>
                    <a:latin typeface="Tahoma"/>
                    <a:ea typeface="Times New Roman"/>
                  </a:rPr>
                  <a:t>when oxygen is present)</a:t>
                </a:r>
                <a:endParaRPr b="0" lang="en-US" sz="4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219320" y="2819520"/>
                <a:ext cx="746748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500" spc="-1" strike="noStrike">
                    <a:solidFill>
                      <a:srgbClr val="ffffff"/>
                    </a:solidFill>
                    <a:latin typeface="Tahoma"/>
                    <a:ea typeface="Times New Roman"/>
                  </a:rPr>
                  <a:t>break down of glucose (only</a:t>
                </a:r>
                <a:endParaRPr b="0" lang="en-US" sz="4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85800" y="1981080"/>
                <a:ext cx="792468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</a:t>
                </a:r>
                <a:r>
                  <a:rPr b="0" lang="en-US" sz="3200" spc="-1" strike="noStrike">
                    <a:solidFill>
                      <a:srgbClr val="ffffff"/>
                    </a:solidFill>
                    <a:latin typeface="Tahoma"/>
                    <a:ea typeface="Times New Roman"/>
                  </a:rPr>
                  <a:t> </a:t>
                </a:r>
                <a:r>
                  <a:rPr b="0" lang="en-US" sz="4500" spc="-1" strike="noStrike">
                    <a:solidFill>
                      <a:srgbClr val="ffffff"/>
                    </a:solidFill>
                    <a:latin typeface="Tahoma"/>
                    <a:ea typeface="Times New Roman"/>
                  </a:rPr>
                  <a:t>the second step in the</a:t>
                </a:r>
                <a:endParaRPr b="0" lang="en-US" sz="4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"/>
          <p:cNvSpPr/>
          <p:nvPr/>
        </p:nvSpPr>
        <p:spPr>
          <a:xfrm>
            <a:off x="685800" y="10666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aerobic respira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ffff"/>
                </a:solidFill>
                <a:latin typeface="Anime Ace"/>
              </a:rPr>
              <a:t>Reaction:</a:t>
            </a:r>
            <a:endParaRPr b="0" lang="en-US" sz="5000" spc="-1" strike="noStrike">
              <a:solidFill>
                <a:srgbClr val="ccffff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04920" y="2819520"/>
            <a:ext cx="8839080" cy="1071000"/>
            <a:chOff x="304920" y="2819520"/>
            <a:chExt cx="8839080" cy="1071000"/>
          </a:xfrm>
        </p:grpSpPr>
        <p:sp>
          <p:nvSpPr>
            <p:cNvPr id="124" name=""/>
            <p:cNvSpPr/>
            <p:nvPr/>
          </p:nvSpPr>
          <p:spPr>
            <a:xfrm>
              <a:off x="304920" y="3276720"/>
              <a:ext cx="88390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6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12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0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6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+  6 O</a:t>
              </a:r>
              <a:r>
                <a:rPr b="0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                    6 CO</a:t>
              </a:r>
              <a:r>
                <a:rPr b="0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 +  6 H</a:t>
              </a:r>
              <a:r>
                <a:rPr b="0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O + 36 ATP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971800" y="3505320"/>
              <a:ext cx="182880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48120" y="2819520"/>
              <a:ext cx="1828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Enzymes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457200" y="40384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lucos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11480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xyge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24280" y="4191120"/>
            <a:ext cx="14479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arb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ioxid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26708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426708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nerg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5486400"/>
            <a:ext cx="2895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5791320"/>
            <a:ext cx="3657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62120" y="51811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662280" y="51811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76920" y="54860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8534520" y="54860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563868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acta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81480" y="59436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duc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7:33Z</dcterms:created>
  <dc:creator>Plano ISD</dc:creator>
  <dc:description/>
  <dc:language>en-US</dc:language>
  <cp:lastModifiedBy>gotcherb</cp:lastModifiedBy>
  <dcterms:modified xsi:type="dcterms:W3CDTF">2007-12-03T13:27:18Z</dcterms:modified>
  <cp:revision>19</cp:revision>
  <dc:subject/>
  <dc:title>Respiration</dc:title>
</cp:coreProperties>
</file>